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CC0-2BEC-4EC9-906A-4E1FC390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110-EB56-4A2E-97B5-710EFA04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D8815-C929-46CD-BF0C-6E9E842D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A7AF8-2FA1-403E-A30C-AC5189F7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5E065-3934-4519-B11C-5A551295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EC5E7-90EC-47F0-BFA7-2EED0660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E3327-AF43-4421-8EFC-D264B02F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D8906-7BBD-4B17-890E-CFC3FC5A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4DF6B-4591-46CE-B86A-0BD58EE0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BE3F6-CDDA-4B08-901A-7E0C79C1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72488-CD3F-4DB6-8064-5ADBAAA0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7E1D9-E479-460B-96DF-CB0A91EB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3CB-0557-4AF5-AB26-1944567F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9AFF4-9B4D-4F78-922F-5D34148A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051B2-B369-4FA5-965A-B33AE4BF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6AD91-9D1B-4164-86E9-22987D4E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A1CE4-CBBB-4A79-8BF4-423656A8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D4B6F-1561-4B57-B77B-2F89C89B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96AD8-F9CD-4B65-ADFC-F9D61786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335B2-A061-4D24-A81A-118D1606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50155-7190-4BD5-8E3A-EC68F005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8167D-C7C2-4C09-856D-B60A86A0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271A7-97B5-4089-BBEE-1353D24F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950-1607-4016-942D-89BF7880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53C7F-91E0-49F0-A254-F776AD8D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098B4-A3D8-4B71-9AE4-225C8DE6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E6FA2-F1C1-4CE4-9624-33D150E0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C9BFD-88A7-47BF-A516-E146307D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72399-10C4-4F5B-8CDA-0F71FFD4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2015F-29B5-40DC-A296-0F893A6A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E196F-F3DF-4449-A4E1-3AD3E355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8E29F-1D35-448C-9EB2-5E1FE152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1F98A-1EB5-487D-BB81-615A93D6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1F2E8-2926-48CB-94A8-9AD4C1EC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F9EA-C111-4C36-A5B3-73799FD0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C45FE-9EA1-470D-BD78-7CF809B7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BC129-9607-4742-9985-8B8B847D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6F1B2-2456-464E-8B58-92321229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65ED0-F9DD-4AC9-94B5-F154516C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5298E-08EC-4A52-BE72-242C9EFE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3C794-F1FE-4495-8052-A7B49C40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544EA-7CF6-497A-9B13-182B0E00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DE481-44A9-4A9D-8AA6-731BD1F7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19B67-C2C2-4840-86C9-B15E24F5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D57E2-669A-4227-ABFF-086FD9C0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2B7B-B93B-4B0D-B801-EBE69003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BF0B3-516B-47E8-A795-1D8D6D5F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DBDF0-B1C6-437E-AEE8-DDDCBA1D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3172C-C5BF-4B45-AC03-02212867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F15EB-4BFF-45FD-AD60-3A7B745D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AD7EF-AE3E-40F7-943A-2098C533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77378-FDD3-4044-A5B5-72C61AE2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7EBBB3-3512-46EA-B2DC-5CCC3240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8559E-5D0D-4E69-9070-94CD6C1B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7460C-7F7A-4CDF-B3DB-AB40EB3C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D3F31-0757-4879-8FB2-2DCA3454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2AAC-BF40-41C2-B7D6-F6B60E4F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C5E6B-4747-4E75-8D1C-99E5E1A6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C2F19-CFE2-4495-AEF6-7C3497A3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2E9CB-7ED2-4625-B6B3-45C1A266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F771C-2CF4-4467-8ECC-03864F31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D2596-8EB5-4783-AEFF-FD2D9D90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FCECE-A24E-4849-A411-47B7BF23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8BD91-B047-4749-8049-85F09344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BE001-D7A1-4164-B654-F7733D0B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689B0-0E8A-49F2-8DF4-47BF66D0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B50C8-0626-4BFE-BC30-FF1FF93C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7886-E087-4853-8DEC-8F771168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FA9BD2-69C8-4577-8515-60774D0B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D6C5D1-30EE-4BB7-8F4E-50927CF7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87CDC-63BD-4779-9FFE-FBCE5C72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AD469D-7394-43F5-A75A-1B071646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6CEFB-BA46-4307-B97C-9EA7553C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47F1D-77C7-4CFF-AB47-E761045E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0146A5-83EA-4888-B599-12EDA2FD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EFB04C-7244-41CB-AA3D-67B5D02F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EDB143-B299-452C-B204-9BACECD0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ABE32-96FC-433D-90C3-5710CB2E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EBA3-4DF0-4FB7-BCCD-AFA5B414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87533-3D29-49B2-AF0E-C9F7E283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8C8A2-7828-444A-81DC-71C1C356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A9AA94-A995-4091-BF3E-5A261B1A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9ECDD8-9555-4E45-BDBA-06FF7D9D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3A13B-EC40-409C-8634-229959DC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C87180-92F6-4638-8E6C-2F942089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BFB31-F218-416D-B95E-BB26486C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1CFA8F-42BE-47D0-8AD0-775879F6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D80D4-7BD9-4E27-AA7E-E235AA94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696C4-5CE9-4A92-A8DD-D3E1BD74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6C3A-385E-4F50-BF07-EC9D318D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8E6BC-0D37-4CA3-A12C-FE708F75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D8CD9B-E6B9-44B0-B50E-832F2A39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4CAB3-E025-4EA8-BD57-D3135729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34EAEE-8129-4468-A1FE-A17C7C0A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95B3FC-7B2E-464E-9080-7B78D97C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268FCC-1566-4814-94D6-F317AC35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92B4E-240D-47DE-AECE-7FCF5023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26B84-CA6B-42DF-8B64-3A51C109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B53EA-C5C4-4BE2-8B2E-372A7358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5B658-E9A2-4C21-983F-3A7AE4BB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567B-25B9-491A-BC79-4434EB6C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73687C-09CE-44D4-A6DC-9EADEB57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F551D8-4A1A-49C2-9E31-76A17E4A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09990-1640-4582-B879-3340988C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91F9C-BB12-4193-B1F5-25312999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B2B1E3-0A8C-4D4D-B7C0-3F8CE033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0A1AD-3EFD-44D4-B7ED-1F0F8373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6ADB4-2062-46D7-AE11-D46B0189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AD7AA-5080-4CAC-B2F7-1D4D7874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253E39-9A31-469B-8685-8AC1A612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E6798-0343-485C-AB91-241B7082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2E4-557F-4290-9251-3127FAB5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4DFE-C379-41B0-AEBA-9E531679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16A8C-62C8-408F-8489-740FFDBA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71DBD-B4B1-491A-9489-3D075042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76C155-0112-47AE-B3BD-611E4D8B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42E79A-FC98-48ED-BFD9-FD074F11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A9167-230B-488B-801C-6B58F31C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982C2A-3591-4987-B323-5E2592F7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AF2611-585D-494D-A790-B9607BA8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DE3C20-7128-4D36-AB4A-4D54A8E5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0E8C23-326E-4DEF-B0B1-4081BEA6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AF77F-D270-4F29-8132-970A595B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B145-0E07-4188-BD01-B0ABB23A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F62603-E473-498E-966E-D9A06B1B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F0421C-7E2B-4460-852A-DD10D5CF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8D36E5-A24B-4877-AE4B-DC9794B3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031462-86E1-41B6-A3E1-B0996C89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F6A269-6329-4212-AE19-C4920000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DE5F2-4346-4A03-AA29-56009FCF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FF46DE-628F-406E-A956-A343F122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1A21F3-2202-4171-AB8A-DE12FC1F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1B853E-AAE5-4D7D-B4B6-D4B58077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99C8C3-0414-4623-8415-F3D8445B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EE6D-2056-4CB1-A880-E0083745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46A4D5-957C-490A-A990-C957B0B7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163FF9-CB14-4D33-9351-FD94FD0E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F3B81C-094D-4C9B-8191-EC18A88F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6A08ED-8BA1-441E-A8F0-29E0038A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2CCA15-9100-40E7-A4A4-92D8B485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6CAC7A-4240-4C52-89F1-B6295A7A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D463C-3BCC-4824-989D-06FD0002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3E853D-532B-4283-B91B-63870954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931FB-2855-48AF-BD9E-AD151D1D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F4085-EC78-4F12-9A50-D5090469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395E-0665-4822-9A04-2104999A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4F4754-A4D7-4327-8603-18E3ECB4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095201-9311-4CAE-A38D-B904A98C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C8E978-C4CB-4A57-AFF3-C13AE7FD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CBAA49-6B79-4131-B665-5EB6CC9A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91E278-2FF8-448F-91B2-B2E3967D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5F39C-C3CA-4137-AD64-184724F7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E9E35C-0B16-4AC5-ADDC-C64F4D74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FB51D8-FA42-4745-8164-B7C4E328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7E442B-E7F1-4E77-BFDC-059C666E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59141B-84BB-45BC-AD14-27F7B04B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3228-652A-4A31-B196-54071324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C6AFF5-E8E7-47E8-BA03-D6948EFF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AA1A80-08A8-416B-B72D-8149069A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80D409-74E3-45A7-A73A-C91B52D4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260C0E-3713-472A-9329-138BA65C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379887-B198-4BD1-AAD4-9657994D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E80A8C-723E-4BDC-863E-6385FC11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256622-1493-4CAA-9DCF-4AC1D58D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D18C30-AC45-4542-9393-5397C146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2CB167-77EB-4827-8264-6D976E9D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2143FB-84DD-4B5F-9292-DC4BF711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D2204-32BE-494E-ACA0-7E056606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CB6336-3698-4178-82B8-C1C5ABC3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2A9D46-BD91-49D1-8067-8380116E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50A4F9-FAE7-420A-A159-2FFEE11E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E8CFEA-92E2-4C10-B832-36D47628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1106C1-04A6-49A4-8E79-1E9478A7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8B808E-56E9-4290-B075-33872DCF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E34BE1-26B7-4930-9C44-75AE3D79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1E9710-06EC-49E6-A683-F6C19F24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8CEC35-B0B5-4FD5-8419-86384699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32E090-58E6-4309-A53C-D7203353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87E7-BB4E-461A-A438-AC617CAC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BAA45E-6C1C-47B6-825B-6062B0C3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39DE3D-9ACC-49DB-9617-27935485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3CC124-08D2-4FBA-8CC6-C4F99EA7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473086-83FF-46CD-9ECC-8F656AC5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21BB8F-8006-47B7-A544-A90DAD61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AB22AA-1C9F-4BB4-835D-98CB2F72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F4271D-DA82-4150-97D7-6110F491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101FFE-72C2-4263-851D-229D9813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6F2B6D-A384-44C0-9C4C-232EEA7F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078185-4F42-4B2B-8C67-B7C96522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DB183-1FA2-4ABB-887E-C31A3404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879B0C-C84E-4179-B6CA-52E1E549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AF9210-D6CF-4B2C-B9FE-2054FA13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7CAFA4-BFE5-41E6-B44B-FE5BE78E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00072B-6F2B-472E-AB23-114318E9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932AF4-886F-4F81-911B-D60DCBFF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39A009-3A71-4541-B9E8-4E151420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F5D1FF-B8ED-4725-879F-4A6161D9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DECEA-C802-4E01-B0A0-4BA5E934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72205-5317-4C3B-B66C-7F32D175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F66-FA3C-4ED5-8362-D2970E82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5F6E-773E-4659-8123-E11D690C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51FAA-7B8F-4D6C-AB5B-C3B8302B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6325E-5210-4308-AC96-B202BCF0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9A56-0E82-4D78-ACE0-C8657484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365D7-8843-470F-ADA7-1C6B5C60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42912-6434-45E9-AEDA-AD6704F9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47572-5096-4085-860E-9654F288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9A3B8-657C-4C76-8F46-1396B03A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DD113-046F-40F7-B351-5449651D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30D12-687B-40FB-A548-E55C62E9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2CC-26B4-4C5A-ACA6-723D0351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4064E-6A70-4240-AC7B-C945B28C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2F023-25AF-4C70-A6B8-73821BB9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5227A-69F0-472D-9B64-124D6797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26D26-9980-42A0-8C73-C189F1FA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211BC-70CA-4BD2-951A-51A9DF5B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92CC5-3646-4DC9-8F33-04FD0F62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894A8-B39F-4567-81D8-E9F2D9F3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A56C7-D73E-4130-804F-EE354920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D486A-1423-4BE0-AC6B-F77C2451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87406-2969-4886-987F-008F74E3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8422-37C1-4C1F-BE76-D9569317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0B060-6849-4C07-9ED3-BFCF62C3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C1C26-0F2F-4A17-BA7F-1C68857D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162C8-59CD-4D62-9DA7-830CC25B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4C03E-D014-4DDF-80E8-66D55020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965D8-A35A-4058-BF2F-2AC44ADD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F6A8-2033-4BA2-A5C6-7BA851AD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5F4B0-928D-4A56-86DE-E98A384A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EE551-C0D5-43E7-B6A7-3C86839B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F67D0-2888-41B6-B94C-60B0A279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44703-DCD3-4FB5-9886-E2EF28D8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54E-7ABC-45C3-9993-83E86802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7056A-59BF-489E-9AD5-C9F2D3EB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CF513-AA16-457B-BD62-89E86CE1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424F8-F711-4682-B7FD-0D15ADF1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96F6F-3969-4C80-AF71-D10B4562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CD8D1-3C8F-4131-AC75-0E0E3553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26CB0-F358-454A-B412-6CF757B9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FB357-8F9F-4B4D-A6DA-260190B0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A65D9-E26A-4CCD-9275-39112EE5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E7CEC-B9D3-4352-B61E-37518F14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67969-6E12-49A9-896A-5F43D200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01A-03D3-44BC-83DA-335DC54B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26B16-6FDF-4FA6-9D0A-79D3CD7F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8DF2A-7400-41B8-8AF9-27228FDB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BC5B5-0CE2-4925-9271-98D32187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44448-8A37-42F9-8224-AD855C13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FFDAD-9E0D-4192-A02C-7A2E59AA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83F71-EC3B-445E-B692-26174060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8CC56-BAA8-4BEC-B786-1BB9F6CC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0B86D-7482-4943-9F2B-CC591ED0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D6AEE-33FB-4993-8238-E6B8693F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E5805-F04C-4229-A071-BE6AECC4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AD3-69A2-47FC-A9E6-68C0800F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57BF1-D4D2-4225-9F0A-952E6BDE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AFC8F-E2CB-4AA8-8501-96C9FF3C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D34DF-BB99-438C-9C1D-1D65E8AF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8A76B-0C79-4B59-9242-847E0340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A9C47-7B15-48EF-8D51-556AAFFF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BBB26-93A2-4811-91FD-52F71388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23003-834D-4575-89C7-3E21C21B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E031D-542D-4478-88F6-958403C8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78648-E8B6-4DBE-A8D5-0F3F8F25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D889E-874C-4581-8B6B-584B0CFD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058-E95B-455F-9766-50C763FE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72C70-AA0A-4566-A24E-9474D0CF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7EB8C-D54C-407E-B2D1-02B6A559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0E932-AFA7-456C-BFF5-A0C17F3F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F9C3F-269E-4324-B896-EE173D6B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6F676-7D17-4A1F-A191-72F9D416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5C918-4FF5-433D-9A16-81138F48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07B04-57CF-4277-9615-7F5997B0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B2142-1B7F-4A37-970F-35F1B8DC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64C78-AC51-4A8F-8A8A-11B1A3CA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202E1-390F-42DD-A47F-269E09A6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9E5B-B1BF-46C2-85AC-A775DA679A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F770-C59C-4814-BEE3-5E74FD12A6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FD83-22FF-4ED8-A05B-7830BAFFDF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8E5A-30C5-4AF1-ACCA-FBB038D60C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92D5-3FD0-4684-9A52-0885260D77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45BF-327E-4F49-893E-D16E2312BF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B913-1546-4194-A147-33374E201C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7116-4D11-4A14-92AE-D7A8EDB621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B695-AFA4-40A4-83AB-0186108C05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7415-CF5B-49A1-8D6F-65FCE47E22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C7A5-7DDE-472C-AF7D-8DEC682272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008B-3D46-4C55-8CC9-FA8F539F18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1EAB-4E06-4B6C-B94A-FDF1460AD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CBD5-43DB-4C23-9590-F1BB5E1B4C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7F68-5DFD-4E06-A555-847CA5D697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1325-587F-4D95-A396-AE65F34A9C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8F66-731C-45D0-B9EF-D1E01FA37C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3DEB-1E3E-4D7C-AA4D-FB4BD54DBD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9D38-323E-4092-BC9B-6E2C61CE30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5C9D-F629-43A4-89C5-3DBCE50480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F218-5FCC-4486-8DD9-5A51F66F1D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3BF0-1992-4364-9FBD-C90F167061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0A09-51C2-4301-B5F7-D465C3230E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9D66-58B5-42D0-8F7B-FF56D41AF1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DEEF-3875-4CCA-AF9A-05FA66CCD6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5DB6-9A73-45AD-9B68-579B10A23F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B39F-77CC-4813-942B-C8FA0AB973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9FDA-E93D-4371-A634-891865B2A2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BD80-4B41-4E48-AE8C-111452404A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04AB-8A38-4FC2-8817-E097B7C700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126B-C2C4-4E50-B3D5-AE333D9155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02C9-6F46-44E9-A9A7-76487247FF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982B-99A4-4EEB-AF51-BF4FD73CE7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E03A-235D-4064-982B-46AEDFE41C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F313-1B7A-4555-8D32-21BFF62208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2CD5-C6D1-4A68-A229-7055E8C41C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5F2C-0B7C-44D9-B514-3CB026661D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2C49-45AC-496A-85C1-866C2B5995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DFFC-511D-4B34-B98F-B32863B453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B9AC-F88A-4CFE-B87C-488A2B79D8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1118-77F9-4DD5-A312-194341F318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C71D-A7B4-4B34-9768-3ABEC9D266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44360" y="3171960"/>
            <a:ext cx="862488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424160" y="861840"/>
            <a:ext cx="6295680" cy="5134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2195640" y="413532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2124000" y="4667400"/>
            <a:ext cx="36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328680" y="1077840"/>
            <a:ext cx="8486640" cy="174312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2" descr=""/>
          <p:cNvPicPr/>
          <p:nvPr/>
        </p:nvPicPr>
        <p:blipFill>
          <a:blip r:embed="rId2"/>
          <a:stretch/>
        </p:blipFill>
        <p:spPr>
          <a:xfrm>
            <a:off x="1636560" y="3475080"/>
            <a:ext cx="6382080" cy="23050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3132000" y="141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3419640" y="198900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5622840" y="1427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586728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8101080" y="146988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8"/>
          <a:stretch/>
        </p:blipFill>
        <p:spPr>
          <a:xfrm>
            <a:off x="8317080" y="19303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9"/>
          <a:stretch/>
        </p:blipFill>
        <p:spPr>
          <a:xfrm>
            <a:off x="3492360" y="4076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0"/>
          <a:stretch/>
        </p:blipFill>
        <p:spPr>
          <a:xfrm>
            <a:off x="3564000" y="47242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1"/>
          <a:stretch/>
        </p:blipFill>
        <p:spPr>
          <a:xfrm>
            <a:off x="6659640" y="4076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2"/>
          <a:stretch/>
        </p:blipFill>
        <p:spPr>
          <a:xfrm>
            <a:off x="6732720" y="466740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19240" y="885960"/>
            <a:ext cx="8705520" cy="57909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2843280" y="2349360"/>
            <a:ext cx="201600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627280" y="292428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804000" y="292428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1806480" y="60213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7093080" y="599292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571680" y="2533680"/>
            <a:ext cx="8001000" cy="17906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5580000" y="32558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3592440" y="3673440"/>
            <a:ext cx="908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1023840" y="2252520"/>
            <a:ext cx="7096320" cy="2352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5219640" y="350028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5148360" y="407664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204840" y="1071720"/>
            <a:ext cx="8734320" cy="47145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201680" y="2550960"/>
            <a:ext cx="2232000" cy="30387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2987640" y="1916280"/>
            <a:ext cx="12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5665680" y="2565360"/>
            <a:ext cx="3227400" cy="30384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7451640" y="1930320"/>
            <a:ext cx="129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652320" y="985680"/>
            <a:ext cx="7839360" cy="48866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2987640" y="109692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4960800" y="1628640"/>
            <a:ext cx="2924280" cy="4105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7048440" y="109692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371520" y="1050840"/>
            <a:ext cx="8400960" cy="54104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2556000" y="5589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5435640" y="2852640"/>
            <a:ext cx="2952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633240" y="1143000"/>
            <a:ext cx="7877520" cy="4572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2325600" y="4797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5219640" y="2060640"/>
            <a:ext cx="295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318960" y="1219320"/>
            <a:ext cx="8506080" cy="4419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971640" y="4365720"/>
            <a:ext cx="345600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900000" y="4984920"/>
            <a:ext cx="763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8:4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